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2.jpeg" ContentType="image/jpeg"/>
  <Override PartName="/ppt/media/image6.jpeg" ContentType="image/jpeg"/>
  <Override PartName="/ppt/media/image11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9279-E2DD-4A98-AEB9-EAE63AAE1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094D-F94B-4AFA-A5D3-9982DD329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F479-1438-4BF5-931B-2505BBDDB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014B-E454-4843-8B12-1CE564E73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82CA1-60DF-4482-B912-3C0C80FDE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13922-A4FA-469F-8D1C-3DE386DDD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CF342-A81C-4C34-BD48-F18D35628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11C7D-D332-4E34-9340-811845BA9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D3532-CD44-43BA-9A48-702126771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601E3-F1FC-4051-B653-791AB9A0E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A9AA8-302D-40BA-B087-F5AEFF3F9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D6B4-B37C-45A2-B7D8-09C1AED10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FDAE2-0213-4B1E-B4E2-A89B6CC2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27DF2-3A2B-4696-B9E0-7CD3C6E44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1A7DF-65FF-46B4-8576-EE1FC9074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B662D-1BD2-4722-921F-C8D0AB260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F57E8-3229-4785-A775-BF1F18887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3E8E-3743-495E-BD5F-25067BA19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DBC7-0B37-4FFE-A9CB-B00FEA685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D7D9-0490-4615-B174-8D3EA57D3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FD45-C0D8-409A-BC17-78FCAF97F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0D94-611A-4B97-A8CB-936CBCA8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D0AB-0D6E-4D30-918E-447353158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4F8B-B455-48A2-A836-9316FA2A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6BD56-0875-4480-8409-B1190AF7C650}" type="slidenum"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55203-10A6-42DB-AB1F-B5CA2B4DB5A3}" type="slidenum">
              <a:rPr b="0" lang="tr-T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800" spc="-1" strike="noStrike">
                <a:solidFill>
                  <a:srgbClr val="ccecff"/>
                </a:solidFill>
                <a:latin typeface="Arial"/>
              </a:rPr>
              <a:t>Ona Bir Maske Ver Sana Gerçeği Söylesin: Rol Kuramı 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Doç. Dr. İnci Doğan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Ulusal Psikiyatri Kongresi, 2009, Anka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Kuram sosyometri ve psikodramanın kalbidi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İnsanı fiziksel, ruhsal, sosyal, aşkın ve antropolojik boyutları kapsayacak şekilde açıkla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Kullanıcı dostudu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Kullananların da yaratıcılığını besler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ccecff"/>
                </a:solidFill>
                <a:latin typeface="Arial"/>
              </a:rPr>
              <a:t>Rol Gelişimi</a:t>
            </a:r>
            <a:r>
              <a:rPr b="0" lang="tr-TR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4" descr="01"/>
          <p:cNvPicPr/>
          <p:nvPr/>
        </p:nvPicPr>
        <p:blipFill>
          <a:blip r:embed="rId1"/>
          <a:stretch/>
        </p:blipFill>
        <p:spPr>
          <a:xfrm>
            <a:off x="1066680" y="914400"/>
            <a:ext cx="71629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ccecff"/>
                </a:solidFill>
                <a:latin typeface="Arial"/>
              </a:rPr>
              <a:t>Role karşı ego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Roller özün doğuşundan öncedi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Ego olarak bilinen şeyin elle tutulur, somut yanı bireyin rolleridir (Moreno 1946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ccecff"/>
                </a:solidFill>
                <a:latin typeface="Arial"/>
              </a:rPr>
              <a:t>Birey ve rolleri</a:t>
            </a:r>
            <a:r>
              <a:rPr b="0" lang="tr-TR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4" descr="02"/>
          <p:cNvPicPr/>
          <p:nvPr/>
        </p:nvPicPr>
        <p:blipFill>
          <a:blip r:embed="rId1"/>
          <a:stretch/>
        </p:blipFill>
        <p:spPr>
          <a:xfrm>
            <a:off x="914400" y="762120"/>
            <a:ext cx="70866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ccecff"/>
                </a:solidFill>
                <a:latin typeface="Arial"/>
              </a:rPr>
              <a:t>Rol Kategorizasyonu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Rudimanter, gelişmiş, aşırı gelişmiş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kötü bir işleve dönüşmüş (J.L. Moreno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Rol kümeleri: pasif, otonomi-beceri, rekabet-paylaşım (Dalmiro Bustos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Geliştirici, başa çıkıcı, donmuş, geriletici (Max Clayton, Sue Daniel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ccecff"/>
                </a:solidFill>
                <a:latin typeface="Arial"/>
              </a:rPr>
              <a:t>Olgu Sunumu: Kazanan (ve kaybeden) Polyanna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44" name="Object 4"/>
          <p:cNvGraphicFramePr/>
          <p:nvPr/>
        </p:nvGraphicFramePr>
        <p:xfrm>
          <a:off x="3240" y="0"/>
          <a:ext cx="9070920" cy="646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0"/>
                    <a:ext cx="9070920" cy="6467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47" name="Object 4"/>
          <p:cNvGraphicFramePr/>
          <p:nvPr/>
        </p:nvGraphicFramePr>
        <p:xfrm>
          <a:off x="12600" y="0"/>
          <a:ext cx="8848800" cy="4799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00" y="0"/>
                    <a:ext cx="8848800" cy="47991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Picture 4" descr="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4" descr="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ccecff"/>
                </a:solidFill>
                <a:latin typeface="Arial"/>
              </a:rPr>
              <a:t>Rol Kuramı Deyince Aklınıza Neler Geliyor?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…………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…………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……………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……………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……………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3 Resim" descr="0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4" descr="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4" descr="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3 Resim" descr="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4" descr="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71" name="Object 4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ccecff"/>
                </a:solidFill>
                <a:latin typeface="Arial"/>
              </a:rPr>
              <a:t>Sonsöz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Rol kuramı operasyonel bir tanı aracıdı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Psikodrama (eylem teknikleri) aracılığıyla saptanan sorunlar anında dönüşüme tutulur ve protagonistin, eski sorularına yaratıcı ve yeni çözümler getirmesine aracılık edili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Rol kuramı meslektaşlar arasında da kullanılacak bir iletişim dilidi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İlginiz için teşekkürler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ccecff"/>
                </a:solidFill>
                <a:latin typeface="Arial"/>
              </a:rPr>
              <a:t>J.L.,Doktor (1889- 1974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J. L. Viyana parklarında çocuklarla (tıp fakültesinde öğrenci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J. L. Mülteci kampların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J. L. Sanatçılarla, hayat kadınlarıyla,  tiyatrocularla (doğmaca tiyatro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……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.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ccecff"/>
                </a:solidFill>
                <a:latin typeface="Arial"/>
              </a:rPr>
              <a:t>1946: Psychodrama Vol.1 </a:t>
            </a:r>
            <a:br>
              <a:rPr sz="3200"/>
            </a:br>
            <a:r>
              <a:rPr b="0" lang="tr-TR" sz="3200" spc="-1" strike="noStrike">
                <a:solidFill>
                  <a:srgbClr val="ccecff"/>
                </a:solidFill>
                <a:latin typeface="Arial"/>
              </a:rPr>
              <a:t>(öncülü 1934: Sosyometrinin Temelleri</a:t>
            </a:r>
            <a:r>
              <a:rPr b="0" lang="tr-TR" sz="4000" spc="-1" strike="noStrike">
                <a:solidFill>
                  <a:srgbClr val="ccecff"/>
                </a:solidFill>
                <a:latin typeface="Arial"/>
              </a:rPr>
              <a:t> )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Rol, bir bireyin, özgül bir anda, başka bireyler ya da nesnelerin olduğu özgül bir duruma tepki verirken üstlendiği işlev biçimidir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ccecff"/>
                </a:solidFill>
                <a:latin typeface="Arial"/>
              </a:rPr>
              <a:t>Örnek:  Ben ve siz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konuşmac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dinleyic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tutkulu konuşmac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meraklı dinleyen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ccecff"/>
                </a:solidFill>
                <a:latin typeface="Arial"/>
              </a:rPr>
              <a:t>Ziya Paşa (1825- 1880) 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Ậinesi iştir kişinin lafa bakılmaz,        Şahsın görünür rütbe-i aklı eserinde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ccecff"/>
                </a:solidFill>
                <a:latin typeface="Arial"/>
              </a:rPr>
              <a:t>Rol Kuramı Ne İçindir?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Gelişimsel bir açıkla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Değerlendirme ve tanı (hasta, normal, sağlıklı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Tedavi (sorunun saptanması ve çözümlerin belirlenmesi, dönüşümler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Eğitim (terapist yetiştirme, süpervizyon)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Meslektaşlarla iletişim (ben yaptım oldu değil, nasıl yaptım, ne yaptımın tanımlanması ve aktarılması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Danışanlar ve yakınlarına bilgi verirken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ccecff"/>
                </a:solidFill>
                <a:latin typeface="Arial"/>
              </a:rPr>
              <a:t>Nerelerde kullanılır?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Bireysel, aile, eş, grup terapiler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Kuruluşlarda (sistem ve rol analizi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Eğiti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Bilgi aktarımı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oName</cp:lastModifiedBy>
  <dcterms:modified xsi:type="dcterms:W3CDTF">2009-10-29T17:30:58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